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48492"/>
        <c:axId val="30991436"/>
      </c:barChart>
      <c:catAx>
        <c:axId val="78948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1436"/>
        <c:crosses val="autoZero"/>
        <c:auto val="1"/>
        <c:lblAlgn val="ctr"/>
        <c:lblOffset val="100"/>
        <c:noMultiLvlLbl val="0"/>
      </c:catAx>
      <c:valAx>
        <c:axId val="30991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48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363-CB77-4ACC-8D9F-5D0B5969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CD7-4D6F-4B2F-8257-7377F42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23E-DFB5-4425-B4A1-8C61A045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24E-87E9-48C5-87F8-EE3110A5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9C7-A4A5-4206-8929-D0F23896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02E-3DE5-4963-93DA-BAAF2826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BCF-8D9A-40B8-90B5-BA6FE648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B27-453C-4A8D-83B9-97356240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90E-9F20-4440-8A75-C04E719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681-E9EE-4F97-9B8C-E759D25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F73-375B-4156-9309-462DECD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A8C-BE16-4C08-A368-D8114169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B29FE-CE1B-4965-8FB4-5C3A43E831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