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74538"/>
        <c:axId val="23415355"/>
      </c:barChart>
      <c:catAx>
        <c:axId val="98474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5355"/>
        <c:crosses val="autoZero"/>
        <c:auto val="1"/>
        <c:lblAlgn val="ctr"/>
        <c:lblOffset val="100"/>
        <c:noMultiLvlLbl val="0"/>
      </c:catAx>
      <c:valAx>
        <c:axId val="23415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4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5EA-2536-4E78-8CEC-B9650EE2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CD4-DCC4-4EFE-9898-B8BD0FB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D71-7F0B-4E21-87BB-7D65539F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976-9FC4-4DBA-85F4-CCBA9F6C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3AB-DA2A-4985-BE36-58DA2E45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25D-EDFA-42BF-A1F0-6123FED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8D1-9D53-441C-A166-7E79D37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265-FA40-462E-86EC-63DE109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026-0243-4A99-8700-B4198D4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47F-6C66-4F70-94B2-1C39DAF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67E4-8C9F-4F47-A03D-B3191012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113-125D-4B8A-AC6C-982830A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650B6-7E1D-4701-AEB8-5046765C2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